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FC6-7E2A-4D9A-AF17-E0A6D609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4DC2-ED49-4274-9235-7C8E2A888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27C2-46B1-45CB-82E3-18E77FF60F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FFE7-E99A-400C-98C5-4012FB9A3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571-4CCF-4FEA-8352-E39C82245B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214-2F22-44B0-90D8-62D4062C0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BF7E-DB4A-4034-91C9-0512B1B93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D5A-2AFF-42A2-A729-DB3024933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50D2-2BCD-4DE1-BEF2-E7C8EA7A5C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BEAF-F156-40C1-B3B0-95A8D1634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06AE-61D6-4259-B4F3-4CA174DC2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E2FB-8A11-450E-A537-B8DDAE353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2AB2-1E9C-4891-8A11-7D8592B4B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C6B-6157-43E4-9403-859B405936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DA5-3A5E-4A4F-90E1-E74A03BD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B5C-2316-4EBB-84D3-93F4A327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6DD-4BC0-4E0E-9E31-AAF94340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7CA-7241-443B-8310-63A8E34C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C5FB-0535-4181-B7CF-868C82A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223-C29D-44E6-B1DB-EC93AE69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1DC3-25B6-4877-8595-D58009E1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9F1-A78C-4794-AF75-8C7879C6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2B63-D60F-4949-88C2-53ABE7B1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F57D-11EE-4E74-9BE4-39D18C0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FDD0-3026-43A3-8B9E-28BF826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557-6B4E-4124-99B4-71B3A2D3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93C0-6F20-43A7-99BB-6A1EBDA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4CA-7EC6-4C31-9C8A-55F07D3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5E53-7AD2-4B81-9208-2828770D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953-F6A5-426D-AB5A-C725B3C3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FAF9-9957-4D69-A67B-B92EA59C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BC9-C5A7-4B55-8DEC-97FBA94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15C-BD44-44C8-B945-7634B22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FC8-A8F4-4660-9DDE-318C2397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C14-89B9-44AB-8A11-AF3BECC9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3B9-EB1C-4528-A190-4C5CA5A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0CD-EAC6-404D-84A0-9ED14B7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6FF-27C1-4775-BD33-AD941A0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F69-57CF-4F6C-ACC1-82A04C9FBD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BB33-2CBA-4CE2-9213-599B8DA453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ElectoralCollege1796-Large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1/ElectoralCollege1800-Large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Eigh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arly Republic: America during the Washington and Adams Presidencies, 1789-180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 21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ay"/>
          <p:cNvPicPr/>
          <p:nvPr/>
        </p:nvPicPr>
        <p:blipFill>
          <a:blip r:embed="rId1"/>
          <a:stretch/>
        </p:blipFill>
        <p:spPr>
          <a:xfrm>
            <a:off x="609480" y="533520"/>
            <a:ext cx="3479760" cy="5181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inckney"/>
          <p:cNvPicPr/>
          <p:nvPr/>
        </p:nvPicPr>
        <p:blipFill>
          <a:blip r:embed="rId2"/>
          <a:stretch/>
        </p:blipFill>
        <p:spPr>
          <a:xfrm>
            <a:off x="4711680" y="609480"/>
            <a:ext cx="359424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’s Farewell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ashington’s Death (179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artha Washington: First First 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e Washington’s Fare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Martha_Washington"/>
          <p:cNvPicPr/>
          <p:nvPr/>
        </p:nvPicPr>
        <p:blipFill>
          <a:blip r:embed="rId1"/>
          <a:stretch/>
        </p:blipFill>
        <p:spPr>
          <a:xfrm>
            <a:off x="5181480" y="1295280"/>
            <a:ext cx="3333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Presidency of John Adams (1797-180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lection of 179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ersonal atta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dams’ at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636px-ElectoralCollege1796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219320"/>
            <a:ext cx="49147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tinued Conflict with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XYZ Affa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alleyr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avy build-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ien and Sedition Acts (179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lien Acts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lien Enemies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dition 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rect House Tax of 17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ries’ Rebell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Presidency of John Adams (1797-180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adams"/>
          <p:cNvPicPr/>
          <p:nvPr/>
        </p:nvPicPr>
        <p:blipFill>
          <a:blip r:embed="rId1"/>
          <a:stretch/>
        </p:blipFill>
        <p:spPr>
          <a:xfrm>
            <a:off x="4419720" y="7621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114300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irginia and Kentucky Re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nstitution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tates’ righ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eace with France-179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ampaign and Election of 18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lection of Jefferson and Bur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milton’s r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Presidency of John Adams (1797-180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636px-ElectoralCollege1800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371600"/>
            <a:ext cx="47246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57200" y="1295280"/>
            <a:ext cx="4572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dams’ last a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idnight Appointmen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udiciary Act of 18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dams leaves t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cent historical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Presidency of John Adams (1797-180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11360" y="228600"/>
            <a:ext cx="321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Key terms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225360" y="1011240"/>
            <a:ext cx="8918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604800" y="76320"/>
            <a:ext cx="29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28600" y="84600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How did the unanimity of Washington’s election in 1788 break down into antagonism between two political factions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What were some of the challenges facing the new U.S. Government during the early yea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What are some of the ways in which the Washington Administration established the expectations for future presidents’ actions and condu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What are some of the controversies of the Adams Administration that exemplify the unpopularity of his presidency, to supporters and opponents alik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e Washington’s First Term (1789-179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merica in 178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revecoe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iver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eorge Washington’s inaugu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session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reation of Cabine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enry Knox, W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omas Jefferson, St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lexander Hamilton, Treas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overnment jo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wshngtn1"/>
          <p:cNvPicPr/>
          <p:nvPr/>
        </p:nvPicPr>
        <p:blipFill>
          <a:blip r:embed="rId1"/>
          <a:stretch/>
        </p:blipFill>
        <p:spPr>
          <a:xfrm>
            <a:off x="4952880" y="1219320"/>
            <a:ext cx="3443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abinet"/>
          <p:cNvPicPr/>
          <p:nvPr/>
        </p:nvPicPr>
        <p:blipFill>
          <a:blip r:embed="rId1"/>
          <a:stretch/>
        </p:blipFill>
        <p:spPr>
          <a:xfrm>
            <a:off x="1219320" y="0"/>
            <a:ext cx="6696000" cy="6464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1981080" y="64911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, Knox, Hamilton, Jefferson, Randol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52280" y="1066680"/>
            <a:ext cx="3733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ebts and fin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venue Act of 17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inor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ill of Rights (1790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eorge Mason, James Madi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0 Amend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reation of the Judici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udiciary Act of 17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ohn J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e Washington’s First Term (1789-179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billrightsnew"/>
          <p:cNvPicPr/>
          <p:nvPr/>
        </p:nvPicPr>
        <p:blipFill>
          <a:blip r:embed="rId1"/>
          <a:stretch/>
        </p:blipFill>
        <p:spPr>
          <a:xfrm>
            <a:off x="3828960" y="990720"/>
            <a:ext cx="52196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86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e Washington’s First Term (1789-179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990720"/>
            <a:ext cx="4572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amilton’s 1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Report on Public Cred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lan for servicing deb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dison’s obj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mpromise of 179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amilton’s Report on Manufa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ax on whisk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ari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Emergence of Political Pa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mocratic-Republicans (Jeffers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ederalists (Adams, Hamilt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p13_3Large"/>
          <p:cNvPicPr/>
          <p:nvPr/>
        </p:nvPicPr>
        <p:blipFill>
          <a:blip r:embed="rId1"/>
          <a:stretch/>
        </p:blipFill>
        <p:spPr>
          <a:xfrm>
            <a:off x="5257800" y="914400"/>
            <a:ext cx="3575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e Washington’s Second Term (1793-179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57200" y="990720"/>
            <a:ext cx="4572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Whiskey Rebellion (’93-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estern farmers &amp; the situ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ashington goes to P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ard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ative American confl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iami Confede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ad Anthony” Way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attle of Fallen Ti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reaty of Greenvil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3" descr="perils"/>
          <p:cNvPicPr/>
          <p:nvPr/>
        </p:nvPicPr>
        <p:blipFill>
          <a:blip r:embed="rId1"/>
          <a:stretch/>
        </p:blipFill>
        <p:spPr>
          <a:xfrm>
            <a:off x="4952880" y="762120"/>
            <a:ext cx="4038840" cy="2852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oh-9-5"/>
          <p:cNvPicPr/>
          <p:nvPr/>
        </p:nvPicPr>
        <p:blipFill>
          <a:blip r:embed="rId2"/>
          <a:srcRect l="0" t="0" r="5516" b="22266"/>
          <a:stretch/>
        </p:blipFill>
        <p:spPr>
          <a:xfrm>
            <a:off x="5861160" y="3733920"/>
            <a:ext cx="2489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orge Washington’s Second Term (1793-179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57200" y="990720"/>
            <a:ext cx="4572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oreign Policy: French Revolution and International Re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itizen Ge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emocratic-Republican Socie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flict with Great Brit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Issues on the s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mpress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Jay Treaty (179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inckney Treaty (179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1"/>
          <p:cNvPicPr/>
          <p:nvPr/>
        </p:nvPicPr>
        <p:blipFill>
          <a:blip r:embed="rId1"/>
          <a:stretch/>
        </p:blipFill>
        <p:spPr>
          <a:xfrm>
            <a:off x="5222880" y="838080"/>
            <a:ext cx="3730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0:34:09Z</dcterms:created>
  <dc:creator>Daniel J. Tortora</dc:creator>
  <dc:description/>
  <dc:language>en-US</dc:language>
  <cp:lastModifiedBy>J Franklin Williamson</cp:lastModifiedBy>
  <dcterms:modified xsi:type="dcterms:W3CDTF">2019-03-25T08:46:51Z</dcterms:modified>
  <cp:revision>28</cp:revision>
  <dc:subject/>
  <dc:title>The Early Republic</dc:title>
</cp:coreProperties>
</file>